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B55-CAC3-4F70-8F9E-41B72F2C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81C-6947-4A7B-B6DD-C5000E32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00A-48A5-423C-ADC2-7D2ACC32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A8D-E491-49DC-9D49-45B7EBF0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134-2087-45FF-971A-04CB3EB9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F3D-35A4-44D6-BFAB-23048D40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89F-296A-4FE3-87A0-573DA2EA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7DB-5D18-41BF-ADA4-F2D64FC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1F8-D4DF-41F3-A0DA-3C43C98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D7F-33E1-4919-A1A2-930793B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87C-014F-40D2-AC5A-4EF21E6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AFF-4B18-484A-8A08-08CCBEAE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C14-EFBA-44AE-B170-8E75C6F0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828800"/>
            <a:ext cx="7010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Fue descubierto que nuestro cerebro tiene un "hueco". (El tuyo también lo tiene, por si te sientes diferen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Aquí va un pequeño ejercicio de calculo mental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Este cálculo debe ser realizado mentalmente y rápidamente, sin calcula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-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dora, ni papel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ni lápi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22096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Tahoma"/>
              </a:rPr>
              <a:t>Sea honesto, haga los cálculos mentalmente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600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úmal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4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ienes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grégale 30 y nuevamente 1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Súmale 20. Súmale 1000 y 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ñá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le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000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úmale 1000 más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41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respuesta correcta es 4100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 no lo cree verifíquelo con una calculado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Pri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43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ápido e impresionante: cuente cuantas letras "F" tiene el texto sigu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 usar el Mouse. Como siempre hágalo rápidame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89548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INISHED FILES ARE THE RESULT OF YEARS OF SCIENTIFIC STUDY COMBIN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ENCE OF YEA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egundo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572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ant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257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asa a la siguient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ahoma"/>
              </a:rPr>
              <a:t>solo cuando haya contado las letras "F"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862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OK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anta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1430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143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4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1430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Err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4760" y="1905120"/>
            <a:ext cx="210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son 6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é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una vez má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657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NISHED FILES ARE THE RESULT OF YEARS OF SCIENTIFIC STUDY COMBIN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EXPERIENCE OF YEA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952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l cerebro muy difícilmente consigue procesar la palabra 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562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Quien cuenta las 6 "F" en la primera vez es un genio, 3 es normal, 4 es más raro, 5 más raro y 6 casi nad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128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Terc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828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Se cree diferente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Haga est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86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Alguna vez pensaron si somos iguales o si pensamos las mismas cos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410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Hagan este ejercicio de reflexión y encuent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la respuesta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20952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Siga las instrucciones y responda las preguntas una a una mentalmente y tan rápido como le sea po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NO SIGA SIN HABER RESPONDIDO LA PREGUNTA ANTERIOR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  <a:ea typeface="Tahoma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e sorprenderá con la respuesta!!!!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86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Ahora responda una cada vez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0160" y="2895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uánto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4000" y="28954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5+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39840" y="33195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+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39840" y="37767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9+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36240" y="4233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+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0400" y="4724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5+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20400" y="51814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5+5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0400" y="56386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3+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533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Sí, estos cálculos mentales no son tan difíciles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  <a:ea typeface="Tahoma"/>
              </a:rPr>
              <a:t>,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  <a:ea typeface="Tahoma"/>
              </a:rPr>
              <a:t> pero ahora va el verdadero test...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13716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ea persistente, siga adelant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3+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PIDO!!! PIENSE UNA HERRAMIENTA Y UN COLOR!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07000" y="266688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iga adelant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9240" y="31240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Un poco más .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5760" y="35812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Pensaste en 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191120"/>
            <a:ext cx="723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El 98% de la población respo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martillo rojo cuando responde a este ejercicio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56240" y="35812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verda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429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M</a:t>
            </a:r>
            <a:r>
              <a:rPr b="1" lang="es-E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artillo </a:t>
            </a:r>
            <a:r>
              <a:rPr b="1" lang="es-ES_tradnl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R</a:t>
            </a:r>
            <a:r>
              <a:rPr b="1" lang="es-E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o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9:45:26Z</dcterms:created>
  <dc:creator>PEPE</dc:creator>
  <dc:description/>
  <dc:language>en-US</dc:language>
  <cp:lastModifiedBy>ETXEA</cp:lastModifiedBy>
  <dcterms:modified xsi:type="dcterms:W3CDTF">2009-12-09T16:20:50Z</dcterms:modified>
  <cp:revision>11</cp:revision>
  <dc:subject/>
  <dc:title>Presentación de PowerPoint</dc:title>
</cp:coreProperties>
</file>